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831-B465-4772-870F-442180A6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293-4F5C-4AE8-9FDB-862656E5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45E-FB8F-438F-9B2C-BF7AEB45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B33-0F56-4AF6-A7D9-4751F6EF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89E-5CE2-4E89-9BA6-5496D269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7E9-D746-4E71-827E-263FDD1C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DAC-8603-457F-809C-8E486007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AFC-C43D-4C80-9F7F-70ED6997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8AE-684D-46A1-BF0A-3C8F8084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860-3EE3-40CA-8607-9D88B49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6A8-A52E-4119-8E6B-CA39430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B6F-6741-4138-85FE-E05DE78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D187-46BA-439D-8CAF-870076EA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Какво знаем за храносмилателната система? Какви са нейните ч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657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о храната трябва да бъде раздробена, преди да я преглътнем и да отиде в стомаха. Как става т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67652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то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Тънки че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бели че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029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та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ъб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ъбите и грижите за т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ед се намира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ц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ито отхапват хр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ях 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чешките зъб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ито разкъсват хр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 тях 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ътниц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ито раздробяват хр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276720" cy="318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4648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cc"/>
                </a:solidFill>
                <a:latin typeface="Arial"/>
              </a:rPr>
              <a:t>Запиш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cc"/>
                </a:solidFill>
                <a:latin typeface="Arial"/>
              </a:rPr>
              <a:t>Зъби – костни израстъци в устата, с които отхапваме и дъвчем хр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219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Устна кухина 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830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 видовете зъ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4724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цата има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млечни зъ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Те растат, докато детето стане на две години и половина. Тези зъби по-късно па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38280" cy="390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533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Млечни и постоянн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 броя на млечните зъ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гледнете снимката в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ястото на млечните зъби се появяват постоянните зъби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ъзрастният човек има 32 зъ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33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Млечни и постоянн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819160" cy="4914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572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 броя на постоянните зъ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Разваляне на зъб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Емайл – покритие на зъбите, което ги предпаз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432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правилно хранене и лоша хигиена емайлът започва да се разрушава. В зъба се появява дупка, която постепенно се разширява и започва да боли. Тази дупка се нарича кари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57200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Хигиена – начин на поведение и мерки за опазване на здрав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Три правила за здрав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1430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очиствайте редовно зъбите си! Мийте ги старателно сутрин и вечер. Използвайте и конец за зъ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410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гледнете илюстрациите в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4724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Три правила за здрав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311200" cy="2311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2590560" cy="2227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1219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1430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Хранете се правилно! Не прекалявайте със сладко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286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йте повече мляко, яжте сирене и плодове и зеленчу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5812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3526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яжте много цитрусови плодове (лимони и портокали) – те развалят емайла на зъб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Три правила за здрав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4479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Посещавайте зъболекаря поне два пъти в година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8195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едовните прегледи навреме се откриват зъбите, които са започнали да се развалят. Така те по-лесно и безболезнено се леку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600360" cy="337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144792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жете се за зъбите си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оянните зъби са за цял жив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ако искаме да ни служат вярно, трябва да се стараем да са здрав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800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исмена задача: отговорете на 3 въпрос от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gnmf</cp:lastModifiedBy>
  <dcterms:modified xsi:type="dcterms:W3CDTF">2009-05-05T09:3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